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FDDB-48E9-45BB-8E6D-1A09C3F897A5}" type="datetime">
              <a:rPr b="0" lang="sl-SI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A8BD-B6ED-42D8-B2DE-B18C6861091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Statistična izbira vzor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OU: odprto priporočilo NADOMEŠČENO z 29 priporočili horizontalne revizije ISAR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ŠŠ: ni še bilo naknadne revizije. Priporočila: Opis sistema ni v celoti usklajen, problemi pri javnih razpis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VZT: 1 priporočilo DELNO IZPOLNJENO (izvajanje kontrol nalog, prenesenih na agenta (TIA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G: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ločenost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funkcij pri agentu JAPTI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pomanjkljiv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evidenca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administrativnih kontrol (evidenca ne vsebujejo  podatkov o opravljenem delu in datumu, osebah, ki so izvedle preverjanje, rezultatih preverjanj in sprejetih ukrepih); </a:t>
            </a: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kontrole na kraju samem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 (sami izvedli eno za OP RČV, z OU pa še se niso dokončno dogovoril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PT MDDS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850-84ED-4A90-A8EC-4ACA8F55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00E7-34A3-456B-8A50-B3A1BBA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5B4-5F8B-4A3D-A4D3-67F1FA16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340-C412-4710-B025-1279E488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613-BA82-42D2-A49A-F1DB4825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B21-10BF-428C-806D-06304719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B75-B7A0-468B-B2F7-A21DC1C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D66-7260-49D0-BD69-62B0236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641-C5A1-413A-8A4C-58B45582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016-43CB-49B4-BC78-6E6116C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16B-BEE8-4486-A453-A5E4DFF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FFC-A510-4C82-829D-7672E1D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28AD-CA7E-4746-B5A4-FC42ADBA0F60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A85-FDCF-427B-B16C-DB972D536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99999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 RR in OP ROPI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očec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2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 2014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DBC8-3D85-4928-B183-73F15B0F86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B3A6-6B67-4662-A7D4-86C178783A5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8229600" cy="394164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8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1BD5-E459-425E-B688-A7D21F4CD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A56-9043-4879-9771-CD96248C980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8d8d8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d8d8d8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E2D-E5E7-4013-82D6-5242B4A9C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2" name="Content Placeholder 20"/>
          <p:cNvSpPr/>
          <p:nvPr/>
        </p:nvSpPr>
        <p:spPr>
          <a:xfrm>
            <a:off x="684360" y="1628640"/>
            <a:ext cx="80499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BE61-64EE-4BE0-9F68-46FF0385E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40000" y="69192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00200" y="1523880"/>
          <a:ext cx="7975440" cy="4438800"/>
        </p:xfrm>
        <a:graphic>
          <a:graphicData uri="http://schemas.openxmlformats.org/drawingml/2006/table">
            <a:tbl>
              <a:tblPr/>
              <a:tblGrid>
                <a:gridCol w="3728880"/>
                <a:gridCol w="860400"/>
                <a:gridCol w="1490760"/>
                <a:gridCol w="1895400"/>
              </a:tblGrid>
              <a:tr h="83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egorija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vilo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tivni delež gled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vrednost napak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ni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eupravičeni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atk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70.42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šena določila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ZJN-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9.86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operacij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74.693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ravilen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zbor izvajalc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ovezane osebe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4.16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strez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iši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ržavne pomoč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.00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340000" y="620640"/>
            <a:ext cx="634680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R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h 6 operacij na PU “dvig konkurenčnosti turističnega gospodarstva”, od tega napake pri 5 (napaka opredeljena kot sistemska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predlagal 5 % pavšalno finančno korekcijo za PU zaradi napak pri izbor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2.774.692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stemska napaka n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OP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ROPI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dirani 2 operaciji na PU “lokalna energetska oskrba” (obe neupravičeni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izvedel preglede na vseh ostalih operacijah na PU (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1.934.168 €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5E8C2-1553-4DFA-9AF2-349EDC796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REDNOTENJE NAPAK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1989000"/>
          <a:ext cx="8208720" cy="4140360"/>
        </p:xfrm>
        <a:graphic>
          <a:graphicData uri="http://schemas.openxmlformats.org/drawingml/2006/table">
            <a:tbl>
              <a:tblPr/>
              <a:tblGrid>
                <a:gridCol w="6200640"/>
                <a:gridCol w="20080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is napake</a:t>
                      </a:r>
                      <a:endParaRPr b="0" lang="en-US" sz="1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ednost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v EUR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icirana (ekstrapolirana) vrednost </a:t>
                      </a:r>
                      <a:r>
                        <a:rPr b="1" i="1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ljučnih napak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35.54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jemne napake 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stematična napaka (v in 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08.861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ane napake (izven vzorca)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75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ajbolj verjetna napaka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en-GB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Most Likely Error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%</a:t>
                      </a:r>
                      <a:r>
                        <a:rPr b="1" lang="sl-SI" sz="1800" spc="-1" strike="noStrike">
                          <a:solidFill>
                            <a:srgbClr val="999999"/>
                          </a:solidFill>
                          <a:latin typeface="Times New Roman"/>
                          <a:ea typeface="Times New Roman"/>
                        </a:rPr>
                        <a:t> od potrjenih izdatkov leta 2012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675-E390-46DD-B5D2-6B12B0BBB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Content Placeholder 20"/>
          <p:cNvSpPr/>
          <p:nvPr/>
        </p:nvSpPr>
        <p:spPr>
          <a:xfrm>
            <a:off x="395280" y="1619280"/>
            <a:ext cx="8497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ERJAVA NAPAK Z DOPUSTNO NAPAKO (2%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999999"/>
                </a:solidFill>
                <a:latin typeface="Calibri"/>
              </a:rPr>
              <a:t>NAJBOLJ VERJETNA NAPAKA &gt; DOPUSTNA NAPAKA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NENJE S PRIDRŽKOM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55640" y="2333520"/>
          <a:ext cx="8137440" cy="2171880"/>
        </p:xfrm>
        <a:graphic>
          <a:graphicData uri="http://schemas.openxmlformats.org/drawingml/2006/table">
            <a:tbl>
              <a:tblPr/>
              <a:tblGrid>
                <a:gridCol w="3944160"/>
                <a:gridCol w="1842840"/>
                <a:gridCol w="2350440"/>
              </a:tblGrid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paka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računana vrednost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stotek od celotne populacije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rejemljiva (dopustna) napaka 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lerable Misstatement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0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upna najbolj verjetna napaka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(MLE)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,80 %</a:t>
                      </a:r>
                      <a:endParaRPr b="0" lang="en-US" sz="16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9A7D-107B-4AEF-A17F-1810DEF85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281A-DA57-4646-9CD7-DCA9AE72CC23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631800" indent="0">
              <a:spcBef>
                <a:spcPts val="601"/>
              </a:spcBef>
              <a:buNone/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068640"/>
          <a:ext cx="8002440" cy="2684160"/>
        </p:xfrm>
        <a:graphic>
          <a:graphicData uri="http://schemas.openxmlformats.org/drawingml/2006/table">
            <a:tbl>
              <a:tblPr/>
              <a:tblGrid>
                <a:gridCol w="1330200"/>
                <a:gridCol w="1849320"/>
                <a:gridCol w="1835280"/>
                <a:gridCol w="1468440"/>
                <a:gridCol w="1519200"/>
              </a:tblGrid>
              <a:tr h="85140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83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OP RČV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99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8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57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F74D-A3EE-41B5-84B2-0B06EC8EF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165A-DA23-40C4-B885-AAAE6AD7195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301-8931-4F60-AF68-A2923F3AB42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snutek revizijskega poročila E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9.1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slovenska verzija  19.3.2014 )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Postopek ustavitve plačil:                       6.3.201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dgovor RO, PO in PT MIZŠ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.4.2014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(angleška verzija    5.5.2014 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9E73-0AC9-46B3-B8EB-8FD00FD27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916-13CD-42BF-9DB1-11309BE7B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v l. 201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16 OP RČV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6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 Sloveniji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upravljalna preverjanj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FBC-9739-457D-8DF4-83DFAC860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4000" y="701640"/>
            <a:ext cx="67788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00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864-49DE-4097-9020-64E9A826E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2200" spc="-1" strike="noStrike" u="sng">
                <a:solidFill>
                  <a:srgbClr val="0000ff"/>
                </a:solidFill>
                <a:uFillTx/>
                <a:latin typeface="Calibri"/>
              </a:rPr>
              <a:t>Izvedene sistemske revizije do maja 2014</a:t>
            </a:r>
            <a:r>
              <a:rPr b="1" lang="sl-SI" sz="21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upravljanja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OU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jul. 2009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feb 2013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organa za potrjevanje - </a:t>
            </a:r>
            <a:r>
              <a:rPr b="1" lang="sl-SI" sz="21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MVZT – OP RR (nov. 2009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SVLR – OP RR (nov. 2009) 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R (mar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   MG - OP ROPI (feb. 2011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(feb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R (mar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PT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MzIP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OP ROPI </a:t>
            </a: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(jan. 2013)</a:t>
            </a:r>
            <a:endParaRPr b="0" lang="en-US" sz="21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KO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OP ROPI</a:t>
            </a:r>
            <a:r>
              <a:rPr b="0" lang="sl-SI" sz="2000" spc="-1" strike="noStrike">
                <a:solidFill>
                  <a:srgbClr val="0000ff"/>
                </a:solidFill>
                <a:latin typeface="Calibri"/>
              </a:rPr>
              <a:t> (dec. 2013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GRT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OP RR (feb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PT </a:t>
            </a:r>
            <a:r>
              <a:rPr b="1" lang="sl-SI" sz="2000" spc="-1" strike="noStrike">
                <a:solidFill>
                  <a:srgbClr val="0000ff"/>
                </a:solidFill>
                <a:latin typeface="Arial"/>
              </a:rPr>
              <a:t>MIZŠ</a:t>
            </a:r>
            <a:r>
              <a:rPr b="0" lang="sl-SI" sz="2000" spc="-1" strike="noStrike">
                <a:solidFill>
                  <a:srgbClr val="0000ff"/>
                </a:solidFill>
                <a:latin typeface="Arial"/>
              </a:rPr>
              <a:t> –  OP RR (apr. 2014)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627E-9808-4BFF-A811-619476DC5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naknadn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revizije sistema in pregledi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izpolnjevanja priporoči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do maja 2014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OU (mar. 2010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400" spc="-1" strike="noStrike">
                <a:solidFill>
                  <a:srgbClr val="0000ff"/>
                </a:solidFill>
                <a:latin typeface="Arial"/>
              </a:rPr>
              <a:t>jan. 2014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VZT (mar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O (jul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SVLR (okt. 2010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GRT (dec. 2012) 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naknadna PT MzP oz. MzIP (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8E8E-561E-4B25-B64C-DFE8A3E47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RR in OP ROPI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izdanih PRIPOROČIL iz revizij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POROČIL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GRT (OP RR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8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KO (OP ROPI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5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Š (OP RR)                                         3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 (OP RR, OP ROPI in OP RČV)              1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AFAA1-5BE9-4A6A-8BF5-7A8742A65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8896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601"/>
              </a:spcBef>
              <a:buClr>
                <a:srgbClr val="99999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2241720" indent="-457200">
              <a:spcBef>
                <a:spcPts val="601"/>
              </a:spcBef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marL="96840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56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12293-0D17-406E-93F3-13A1363AB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1295280"/>
            <a:ext cx="81360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96A-8BEC-430B-9E49-4C4C7CD68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341-5A38-422D-96A3-5B570299C4A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7D20-CED0-453D-98A0-696B85D58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19T12:46:30Z</dcterms:modified>
  <cp:revision>62</cp:revision>
  <dc:subject/>
  <dc:title>Slide 1</dc:title>
</cp:coreProperties>
</file>